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47C-D9B5-4BC8-B63B-0AA81CA3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9D5-7D98-4727-A083-EB2B89E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9E3-FDDB-4AC0-9F66-AE607C22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B90-5E12-4D2F-94E5-FB4E80D8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69C-057A-4982-A3AE-E607D57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4C5-1C46-48AC-87C6-DA129416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11F-3A0C-4E79-A9B5-54F61E8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9D5-72F8-409D-A5E9-8F927AF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C10-5B70-4532-B3EA-08FCC3AF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AD0-9F2F-4F83-8CCC-B990CC2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FEB-B735-4CC6-9364-2D3D7B4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CD3-06FC-4A90-8175-C148C54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95CC-C4A1-422C-BBA9-5F622D189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95640" y="2208240"/>
            <a:ext cx="5072040" cy="3478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-109440" y="2208240"/>
            <a:ext cx="4998960" cy="3470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3439440" y="105480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短  文  两  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468360" y="2747880"/>
            <a:ext cx="8496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爱莲说》是周敦颐于熙宁年间任南康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江西省星子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郡守时写的。他曾于府治东侧开辟了一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丈宽的莲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池中建赏莲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北曲桥连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秋之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花盛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披霞含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亭亭玉立。每当微风吹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田田荷叶轻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朵朵鲜花颔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阵阵馨香扑鼻。先生凭栏放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触景生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莲花之洁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宦海之污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遂写下了著名的《爱莲说》。至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子县还有遗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对角圆角矩形 5"/>
          <p:cNvSpPr/>
          <p:nvPr/>
        </p:nvSpPr>
        <p:spPr>
          <a:xfrm>
            <a:off x="468360" y="1557360"/>
            <a:ext cx="8424720" cy="4535640"/>
          </a:xfrm>
          <a:custGeom>
            <a:avLst/>
            <a:gdLst/>
            <a:ahLst/>
            <a:rect l="l" t="t" r="r" b="b"/>
            <a:pathLst>
              <a:path w="8424936" h="4536504">
                <a:moveTo>
                  <a:pt x="756099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780404"/>
                </a:lnTo>
                <a:cubicBezTo>
                  <a:pt x="8424936" y="4197986"/>
                  <a:pt x="8086419" y="4536503"/>
                  <a:pt x="7668837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2203200" y="1397160"/>
            <a:ext cx="51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陋室铭》通过简要而生动地描述“陋室”内外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用类比和例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力地分析证明了“陋室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陋”的原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作者安贫乐道的生活情趣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洁傲岸的道德情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爱莲说》中作者以“莲”自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抒写爱莲之情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了自己淡泊名利、洁身自好的人生态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婉转地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了追名逐利、趋炎附势的恶浊世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角圆角矩形 5"/>
          <p:cNvSpPr/>
          <p:nvPr/>
        </p:nvSpPr>
        <p:spPr>
          <a:xfrm>
            <a:off x="395280" y="1484280"/>
            <a:ext cx="8569440" cy="4537080"/>
          </a:xfrm>
          <a:custGeom>
            <a:avLst/>
            <a:gdLst/>
            <a:ahLst/>
            <a:rect l="l" t="t" r="r" b="b"/>
            <a:pathLst>
              <a:path w="8568952" h="4536504">
                <a:moveTo>
                  <a:pt x="756099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780404"/>
                </a:lnTo>
                <a:cubicBezTo>
                  <a:pt x="8568952" y="4197986"/>
                  <a:pt x="8230435" y="4536503"/>
                  <a:pt x="7812853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RJ22.eps" descr="id:2147504106;FounderCES"/>
          <p:cNvPicPr/>
          <p:nvPr/>
        </p:nvPicPr>
        <p:blipFill>
          <a:blip r:embed="rId2"/>
          <a:stretch/>
        </p:blipFill>
        <p:spPr>
          <a:xfrm>
            <a:off x="539640" y="1557360"/>
            <a:ext cx="828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RJ22-1.eps" descr="id:2147504113;FounderCES"/>
          <p:cNvPicPr/>
          <p:nvPr/>
        </p:nvPicPr>
        <p:blipFill>
          <a:blip r:embed="rId2"/>
          <a:stretch/>
        </p:blipFill>
        <p:spPr>
          <a:xfrm>
            <a:off x="611280" y="141300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1740240" y="1407240"/>
            <a:ext cx="574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《陋室铭》是从哪几方面来写陋室的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寄托了作者怎样的情趣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本文夹叙夹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但有观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论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在论证过程中还简要而生动地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“陋室”内外的情景。全文分三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头三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两个比喻引出陋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高”“不在深”陪衬“陋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仙”“龙”陪衬“德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名”“灵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陪衬“馨”。类比立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斯是陋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惟吾德馨”概括全文主旨。其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环境和生活内容两方面来描写陋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显陋室不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室主人居于其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怡然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。以“苔痕”二句写“陋室”环境之清幽宁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谈笑”四句写室内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趣之高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无丝竹”二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室主人超尘绝俗的胸襟更洞若观火。最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古代名贤居室类比陋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说明陋室不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隐现以古代名贤自况之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文章托物言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陋室来充分表达作者高洁傲岸的节操和安贫乐道的志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标注 5"/>
          <p:cNvSpPr/>
          <p:nvPr/>
        </p:nvSpPr>
        <p:spPr>
          <a:xfrm>
            <a:off x="250920" y="1989000"/>
            <a:ext cx="8713800" cy="4032360"/>
          </a:xfrm>
          <a:prstGeom prst="wedgeRoundRectCallout">
            <a:avLst>
              <a:gd name="adj1" fmla="val 4245"/>
              <a:gd name="adj2" fmla="val -5235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1803960" y="1188000"/>
            <a:ext cx="563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在《爱莲说》中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第一段和第二段前半部分均按“菊——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丹——莲”的顺序写的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文末却按“菊——莲——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丹”的顺序写呢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半部分按“菊——牡丹——莲”的顺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为了突出作者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的喜爱。后文按“菊——莲——牡丹”的顺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从褒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凡是超凡脱俗的事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赏的人就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趋势媚俗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赏的人就多。把正面放在前面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用反面来反衬一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有独到之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句分别用陈述句和疑问句来表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别是最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牡丹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表达了作者复杂的思想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标注 5"/>
          <p:cNvSpPr/>
          <p:nvPr/>
        </p:nvSpPr>
        <p:spPr>
          <a:xfrm>
            <a:off x="179280" y="2924280"/>
            <a:ext cx="8785440" cy="3241440"/>
          </a:xfrm>
          <a:prstGeom prst="wedgeRoundRectCallout">
            <a:avLst>
              <a:gd name="adj1" fmla="val -5962"/>
              <a:gd name="adj2" fmla="val -5587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540360" y="883800"/>
            <a:ext cx="7197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加点字注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根据拼音写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德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西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鸿儒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鲜有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ú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è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ū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泥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uó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下列加点词在文中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斯是陋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陋之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爱者甚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后鲜有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3132000" y="4221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草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茂盛。这里指繁多。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464480" y="206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c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īn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shǔ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        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r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1995840" y="263700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i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                 牍　                亵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1455120" y="32130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淤　                       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8"/>
          <p:cNvSpPr/>
          <p:nvPr/>
        </p:nvSpPr>
        <p:spPr>
          <a:xfrm>
            <a:off x="1042920" y="2565360"/>
            <a:ext cx="1224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9"/>
          <p:cNvSpPr/>
          <p:nvPr/>
        </p:nvSpPr>
        <p:spPr>
          <a:xfrm>
            <a:off x="684360" y="3068640"/>
            <a:ext cx="1220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0"/>
          <p:cNvSpPr/>
          <p:nvPr/>
        </p:nvSpPr>
        <p:spPr>
          <a:xfrm>
            <a:off x="6012000" y="2492280"/>
            <a:ext cx="1220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1"/>
          <p:cNvSpPr/>
          <p:nvPr/>
        </p:nvSpPr>
        <p:spPr>
          <a:xfrm>
            <a:off x="3780000" y="2492280"/>
            <a:ext cx="1220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2"/>
          <p:cNvSpPr/>
          <p:nvPr/>
        </p:nvSpPr>
        <p:spPr>
          <a:xfrm>
            <a:off x="1116000" y="522936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3"/>
          <p:cNvSpPr/>
          <p:nvPr/>
        </p:nvSpPr>
        <p:spPr>
          <a:xfrm>
            <a:off x="2340000" y="580536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4"/>
          <p:cNvSpPr/>
          <p:nvPr/>
        </p:nvSpPr>
        <p:spPr>
          <a:xfrm>
            <a:off x="1763640" y="6381720"/>
            <a:ext cx="1224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5"/>
          <p:cNvSpPr/>
          <p:nvPr/>
        </p:nvSpPr>
        <p:spPr>
          <a:xfrm>
            <a:off x="1116000" y="4724280"/>
            <a:ext cx="1224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1646640" y="1045800"/>
            <a:ext cx="362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下列句子中加点词语的古今异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不在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调素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案牍之劳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1547640" y="501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体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状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1619280" y="2060640"/>
            <a:ext cx="44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示某物在某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介词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1692360" y="378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弹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调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>
            <a:off x="1547640" y="2637000"/>
            <a:ext cx="18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9"/>
          <p:cNvSpPr/>
          <p:nvPr/>
        </p:nvSpPr>
        <p:spPr>
          <a:xfrm>
            <a:off x="1476360" y="32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1"/>
          <p:cNvSpPr/>
          <p:nvPr/>
        </p:nvSpPr>
        <p:spPr>
          <a:xfrm>
            <a:off x="1476360" y="429264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4"/>
          <p:cNvSpPr/>
          <p:nvPr/>
        </p:nvSpPr>
        <p:spPr>
          <a:xfrm>
            <a:off x="1403280" y="4869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1476360" y="587700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6"/>
          <p:cNvSpPr/>
          <p:nvPr/>
        </p:nvSpPr>
        <p:spPr>
          <a:xfrm>
            <a:off x="1403280" y="652464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2"/>
          <p:cNvSpPr/>
          <p:nvPr/>
        </p:nvSpPr>
        <p:spPr>
          <a:xfrm>
            <a:off x="1835280" y="2133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7"/>
          <p:cNvSpPr/>
          <p:nvPr/>
        </p:nvSpPr>
        <p:spPr>
          <a:xfrm>
            <a:off x="1835280" y="3789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8"/>
          <p:cNvSpPr/>
          <p:nvPr/>
        </p:nvSpPr>
        <p:spPr>
          <a:xfrm>
            <a:off x="2700360" y="544500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1572840" y="1246320"/>
            <a:ext cx="547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停顿划分不正确的一项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苔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阶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帘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诸葛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云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谓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逸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755640" y="479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确的停顿应为“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在高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则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7036200" y="1341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对角圆角矩形 5"/>
          <p:cNvSpPr/>
          <p:nvPr/>
        </p:nvSpPr>
        <p:spPr>
          <a:xfrm>
            <a:off x="755640" y="4724280"/>
            <a:ext cx="7704000" cy="1008360"/>
          </a:xfrm>
          <a:custGeom>
            <a:avLst/>
            <a:gdLst/>
            <a:ahLst/>
            <a:rect l="l" t="t" r="r" b="b"/>
            <a:pathLst>
              <a:path w="7704856" h="1008112">
                <a:moveTo>
                  <a:pt x="168022" y="0"/>
                </a:moveTo>
                <a:lnTo>
                  <a:pt x="7704856" y="0"/>
                </a:lnTo>
                <a:lnTo>
                  <a:pt x="7704856" y="0"/>
                </a:lnTo>
                <a:lnTo>
                  <a:pt x="7704856" y="840089"/>
                </a:lnTo>
                <a:cubicBezTo>
                  <a:pt x="7704856" y="932885"/>
                  <a:pt x="7629630" y="1008111"/>
                  <a:pt x="7536834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2482920" y="788400"/>
            <a:ext cx="4063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课文内容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陋室铭》中体现全文主旨的句子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运用的最主要的一种写作手法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陋室铭》中写主人生活环境清雅的句子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敦颐在《爱莲说》中描写莲花高洁、质朴的句子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爱莲说》以“莲”为写作对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几次提到菊、牡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5651640" y="141300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斯是陋室 惟吾德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5833440" y="19162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托物言志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6588000" y="2421000"/>
            <a:ext cx="19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苔痕上阶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324000" y="299736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草色入帘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324000" y="342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淤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不染　濯清涟而不妖　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1617120" y="522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衬托莲的高洁可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900000" y="1325520"/>
            <a:ext cx="75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鸿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案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淤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隐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宜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调素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诸葛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鲜有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05800" y="206064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66520" y="206064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5797800" y="213372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346760" y="270828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558960" y="278136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5798160" y="270828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476360" y="335772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921120" y="3429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6165000" y="335772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838880" y="400536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998160" y="40053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6303240" y="39337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1837800" y="4653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4430160" y="465300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2196360" y="5300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282560" y="522936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5"/>
          <p:cNvSpPr/>
          <p:nvPr/>
        </p:nvSpPr>
        <p:spPr>
          <a:xfrm>
            <a:off x="3203640" y="256536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6"/>
          <p:cNvSpPr/>
          <p:nvPr/>
        </p:nvSpPr>
        <p:spPr>
          <a:xfrm>
            <a:off x="5435640" y="256536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7"/>
          <p:cNvSpPr/>
          <p:nvPr/>
        </p:nvSpPr>
        <p:spPr>
          <a:xfrm>
            <a:off x="5435640" y="321300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8"/>
          <p:cNvSpPr/>
          <p:nvPr/>
        </p:nvSpPr>
        <p:spPr>
          <a:xfrm>
            <a:off x="3203640" y="321300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9"/>
          <p:cNvSpPr/>
          <p:nvPr/>
        </p:nvSpPr>
        <p:spPr>
          <a:xfrm>
            <a:off x="1116000" y="3213000"/>
            <a:ext cx="1224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0"/>
          <p:cNvSpPr/>
          <p:nvPr/>
        </p:nvSpPr>
        <p:spPr>
          <a:xfrm>
            <a:off x="5796000" y="3860640"/>
            <a:ext cx="1220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1"/>
          <p:cNvSpPr/>
          <p:nvPr/>
        </p:nvSpPr>
        <p:spPr>
          <a:xfrm>
            <a:off x="3635280" y="3860640"/>
            <a:ext cx="1224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1116000" y="3860640"/>
            <a:ext cx="1224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3"/>
          <p:cNvSpPr/>
          <p:nvPr/>
        </p:nvSpPr>
        <p:spPr>
          <a:xfrm>
            <a:off x="5508720" y="4508640"/>
            <a:ext cx="12204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4"/>
          <p:cNvSpPr/>
          <p:nvPr/>
        </p:nvSpPr>
        <p:spPr>
          <a:xfrm>
            <a:off x="3708360" y="4508640"/>
            <a:ext cx="12240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5"/>
          <p:cNvSpPr/>
          <p:nvPr/>
        </p:nvSpPr>
        <p:spPr>
          <a:xfrm>
            <a:off x="3276720" y="5084640"/>
            <a:ext cx="1220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6"/>
          <p:cNvSpPr/>
          <p:nvPr/>
        </p:nvSpPr>
        <p:spPr>
          <a:xfrm>
            <a:off x="1476360" y="5084640"/>
            <a:ext cx="1224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1835280" y="5732640"/>
            <a:ext cx="12204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8"/>
          <p:cNvSpPr/>
          <p:nvPr/>
        </p:nvSpPr>
        <p:spPr>
          <a:xfrm>
            <a:off x="3276720" y="5732640"/>
            <a:ext cx="12204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9"/>
          <p:cNvSpPr/>
          <p:nvPr/>
        </p:nvSpPr>
        <p:spPr>
          <a:xfrm>
            <a:off x="1116000" y="4508640"/>
            <a:ext cx="12240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对角圆角矩形 40"/>
          <p:cNvSpPr/>
          <p:nvPr/>
        </p:nvSpPr>
        <p:spPr>
          <a:xfrm>
            <a:off x="611280" y="1484280"/>
            <a:ext cx="7921440" cy="4465800"/>
          </a:xfrm>
          <a:custGeom>
            <a:avLst/>
            <a:gdLst/>
            <a:ahLst/>
            <a:rect l="l" t="t" r="r" b="b"/>
            <a:pathLst>
              <a:path w="7920880" h="4464496">
                <a:moveTo>
                  <a:pt x="744097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3720398"/>
                </a:lnTo>
                <a:cubicBezTo>
                  <a:pt x="7920880" y="4131351"/>
                  <a:pt x="7587736" y="4464495"/>
                  <a:pt x="7176783" y="4464495"/>
                </a:cubicBezTo>
                <a:lnTo>
                  <a:pt x="0" y="4464496"/>
                </a:lnTo>
                <a:lnTo>
                  <a:pt x="0" y="4464496"/>
                </a:lnTo>
                <a:lnTo>
                  <a:pt x="0" y="744097"/>
                </a:lnTo>
                <a:cubicBezTo>
                  <a:pt x="0" y="333144"/>
                  <a:pt x="333144" y="0"/>
                  <a:pt x="74409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2311920" y="963000"/>
            <a:ext cx="447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的材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你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 桌 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不在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格就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不在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弊则灵。斯是陋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惟吾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。小说传得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杂志翻得勤。琢磨下围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寻思看电影。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漫画、写书信。无书声之乱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作业之劳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非跳舞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称游乐厅。学子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混张文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016440" y="4340520"/>
            <a:ext cx="29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从两个方面来回答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是它确实是某些学生的真实写照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真实性。二是对它所体现出来的消极性以及对学习不负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观点要进行批判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要观点明确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言之有理即可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对角圆角矩形 4"/>
          <p:cNvSpPr/>
          <p:nvPr/>
        </p:nvSpPr>
        <p:spPr>
          <a:xfrm>
            <a:off x="250920" y="4437000"/>
            <a:ext cx="8569080" cy="1584360"/>
          </a:xfrm>
          <a:custGeom>
            <a:avLst/>
            <a:gdLst/>
            <a:ahLst/>
            <a:rect l="l" t="t" r="r" b="b"/>
            <a:pathLst>
              <a:path w="8568952" h="1584176">
                <a:moveTo>
                  <a:pt x="264034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1320141"/>
                </a:lnTo>
                <a:cubicBezTo>
                  <a:pt x="8568952" y="1465963"/>
                  <a:pt x="8450740" y="1584175"/>
                  <a:pt x="8304918" y="1584175"/>
                </a:cubicBezTo>
                <a:lnTo>
                  <a:pt x="0" y="1584176"/>
                </a:lnTo>
                <a:lnTo>
                  <a:pt x="0" y="1584176"/>
                </a:lnTo>
                <a:lnTo>
                  <a:pt x="0" y="264034"/>
                </a:lnTo>
                <a:cubicBezTo>
                  <a:pt x="0" y="118212"/>
                  <a:pt x="118212" y="0"/>
                  <a:pt x="26403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1411560" y="1050480"/>
            <a:ext cx="6258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 莲 说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敦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                          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菏泽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陆草木之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爱者甚蕃。晋陶渊明独爱菊。自李唐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人甚爱牡丹。予独爱莲之出淤泥而不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濯清涟而不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蔓不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远益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亭亭净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远观而不可亵玩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予谓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之隐逸者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牡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之富贵者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之君子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。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菊之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后鲜有闻。莲之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予者何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牡丹之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乎众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"/>
          <p:cNvSpPr/>
          <p:nvPr/>
        </p:nvSpPr>
        <p:spPr>
          <a:xfrm>
            <a:off x="2700360" y="386064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1434240" y="973800"/>
            <a:ext cx="65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 惯 说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　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蓉少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养晦堂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西偏一室。俯而读仰而思思有弗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绕室以旋。室有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径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浸淫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广。每履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苦踬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焉。既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遂安之。一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君子来室中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顾而笑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室之不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天下家国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童子取土平之。后蓉复履其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蹶然以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忽隆起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俯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坦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既平矣。已而复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久而后安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之中人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矣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之履平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不与洼适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其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若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使久而即乎其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反窒焉而不宁。故君子之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乎慎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【注】①养晦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蓉居室名。②浸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渐渐扩展。③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跌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之中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惯在人身上一旦形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4"/>
          <p:cNvSpPr/>
          <p:nvPr/>
        </p:nvSpPr>
        <p:spPr>
          <a:xfrm>
            <a:off x="5435640" y="206064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5"/>
          <p:cNvSpPr/>
          <p:nvPr/>
        </p:nvSpPr>
        <p:spPr>
          <a:xfrm>
            <a:off x="5148360" y="3213000"/>
            <a:ext cx="35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9"/>
          <p:cNvSpPr/>
          <p:nvPr/>
        </p:nvSpPr>
        <p:spPr>
          <a:xfrm>
            <a:off x="0" y="3789360"/>
            <a:ext cx="21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53880" y="1278720"/>
            <a:ext cx="8790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下列句子中加点词的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正确的一项是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远益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亭亭净植　　　　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菊之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后鲜有闻　　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履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苦踬焉　　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君子来室中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之　　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……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539640" y="4941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益”的意思是“更加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对角圆角矩形 4"/>
          <p:cNvSpPr/>
          <p:nvPr/>
        </p:nvSpPr>
        <p:spPr>
          <a:xfrm>
            <a:off x="468360" y="4797360"/>
            <a:ext cx="8280360" cy="863640"/>
          </a:xfrm>
          <a:custGeom>
            <a:avLst/>
            <a:gdLst/>
            <a:ahLst/>
            <a:rect l="l" t="t" r="r" b="b"/>
            <a:pathLst>
              <a:path w="8280920" h="864096">
                <a:moveTo>
                  <a:pt x="144018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720077"/>
                </a:lnTo>
                <a:cubicBezTo>
                  <a:pt x="8280920" y="799616"/>
                  <a:pt x="8216441" y="864095"/>
                  <a:pt x="8136902" y="864095"/>
                </a:cubicBezTo>
                <a:lnTo>
                  <a:pt x="0" y="864096"/>
                </a:lnTo>
                <a:lnTo>
                  <a:pt x="0" y="864096"/>
                </a:lnTo>
                <a:lnTo>
                  <a:pt x="0" y="144018"/>
                </a:lnTo>
                <a:cubicBezTo>
                  <a:pt x="0" y="64479"/>
                  <a:pt x="64479" y="0"/>
                  <a:pt x="1440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8172360" y="141300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6"/>
          <p:cNvSpPr/>
          <p:nvPr/>
        </p:nvSpPr>
        <p:spPr>
          <a:xfrm>
            <a:off x="1692360" y="256536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2771640" y="314172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1258920" y="3789360"/>
            <a:ext cx="1238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3564000" y="443700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382400" y="1044720"/>
            <a:ext cx="512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组句子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点词的意义和用法相同的一项是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远观而不可亵玩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五谷之实而不有其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牡丹之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宜乎众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苍颜白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颓然乎其间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童子取土平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此观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之蔽甚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蓉复履其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蹶然以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食所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敢专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以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"/>
          <p:cNvSpPr/>
          <p:nvPr/>
        </p:nvSpPr>
        <p:spPr>
          <a:xfrm>
            <a:off x="1619280" y="198900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4"/>
          <p:cNvSpPr/>
          <p:nvPr/>
        </p:nvSpPr>
        <p:spPr>
          <a:xfrm>
            <a:off x="1763640" y="242100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5"/>
          <p:cNvSpPr/>
          <p:nvPr/>
        </p:nvSpPr>
        <p:spPr>
          <a:xfrm>
            <a:off x="2268360" y="378936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6"/>
          <p:cNvSpPr/>
          <p:nvPr/>
        </p:nvSpPr>
        <p:spPr>
          <a:xfrm>
            <a:off x="1835280" y="422100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8"/>
          <p:cNvSpPr/>
          <p:nvPr/>
        </p:nvSpPr>
        <p:spPr>
          <a:xfrm>
            <a:off x="2916360" y="515772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9"/>
          <p:cNvSpPr/>
          <p:nvPr/>
        </p:nvSpPr>
        <p:spPr>
          <a:xfrm>
            <a:off x="2843280" y="4653000"/>
            <a:ext cx="1220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0"/>
          <p:cNvSpPr/>
          <p:nvPr/>
        </p:nvSpPr>
        <p:spPr>
          <a:xfrm>
            <a:off x="2124000" y="335772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1"/>
          <p:cNvSpPr/>
          <p:nvPr/>
        </p:nvSpPr>
        <p:spPr>
          <a:xfrm>
            <a:off x="2050920" y="2852640"/>
            <a:ext cx="1224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4356000" y="1844640"/>
            <a:ext cx="460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的“而”都表示转折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翻译为“可是”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第一个“乎”不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个“乎”可以译为“于”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第一个“之”是代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个相当于结构助词“的”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第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”是连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个“以”是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对角圆角矩形 13"/>
          <p:cNvSpPr/>
          <p:nvPr/>
        </p:nvSpPr>
        <p:spPr>
          <a:xfrm>
            <a:off x="4356000" y="1700280"/>
            <a:ext cx="4464000" cy="3529080"/>
          </a:xfrm>
          <a:custGeom>
            <a:avLst/>
            <a:gdLst/>
            <a:ahLst/>
            <a:rect l="l" t="t" r="r" b="b"/>
            <a:pathLst>
              <a:path w="4464496" h="3528392">
                <a:moveTo>
                  <a:pt x="588077" y="0"/>
                </a:moveTo>
                <a:lnTo>
                  <a:pt x="4464496" y="0"/>
                </a:lnTo>
                <a:lnTo>
                  <a:pt x="4464496" y="0"/>
                </a:lnTo>
                <a:lnTo>
                  <a:pt x="4464496" y="2940314"/>
                </a:lnTo>
                <a:cubicBezTo>
                  <a:pt x="4464496" y="3265100"/>
                  <a:pt x="4201205" y="3528391"/>
                  <a:pt x="3876419" y="3528391"/>
                </a:cubicBezTo>
                <a:lnTo>
                  <a:pt x="0" y="3528392"/>
                </a:lnTo>
                <a:lnTo>
                  <a:pt x="0" y="3528392"/>
                </a:lnTo>
                <a:lnTo>
                  <a:pt x="0" y="588077"/>
                </a:lnTo>
                <a:cubicBezTo>
                  <a:pt x="0" y="263291"/>
                  <a:pt x="263291" y="0"/>
                  <a:pt x="58807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4"/>
          <p:cNvSpPr/>
          <p:nvPr/>
        </p:nvSpPr>
        <p:spPr>
          <a:xfrm>
            <a:off x="6744960" y="1125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066680" y="918000"/>
            <a:ext cx="37976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文中画线的句子翻译成现代汉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予独爱莲之出淤泥而不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濯清涟而不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顾而笑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室之不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以天下家国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395280" y="191628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唯独喜欢莲从淤泥中生长出来却不被沾染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清水中清洗过却不显得妖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24000" y="2781360"/>
            <a:ext cx="90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父亲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到屋里的洼坑笑着对我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连一间屋子都不能治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还能治理国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563920" y="3333600"/>
            <a:ext cx="34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《习惯说》中画曲线的句子断句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标两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含句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俯而读仰而思思有弗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324000" y="4292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俯而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仰而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有弗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言文断句的方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般是由大到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由易到难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点面结合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句句突破。意思就是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标点之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认真通读全文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容易断开的句子先断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再依次缩小断句范围。对于疑难句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联系上下文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抓住关键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仔细推敲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切不可顾前不顾后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粗心大意。六个关键点——①找名词、代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虚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察对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④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据修辞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⑤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辨句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依总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767160" y="1099440"/>
            <a:ext cx="756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爱莲说》运用了托物言志的表现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在文中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志”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　　　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习惯说》通过一件小事说明了一个深刻的道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道理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2050920" y="170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慕名利、洁身自好的生活态度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1318680" y="285264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君子之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贵乎慎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6"/>
          <p:cNvSpPr/>
          <p:nvPr/>
        </p:nvSpPr>
        <p:spPr>
          <a:xfrm>
            <a:off x="611280" y="335772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24000" y="3653640"/>
            <a:ext cx="86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题考查文章揭示的主题。《爱莲说》从莲花的生长环境、体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香气、风度气质三个方面写出莲花的高洁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表现了作者不慕名利、洁身自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生活态度。《习惯说》最后一段揭示的道理是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于一个人来说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论是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养好习惯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还是克服坏习惯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都应该从少年时期开始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因为这个时期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是形成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习惯的最初阶段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好习惯容易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克服坏习惯也容易。正如文中所说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故君子之学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贵乎慎始。”一个人在学习时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初始阶段养成的习惯是非常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君子求学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贵在慎重地对待开始阶段的习惯养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对角圆角矩形 8"/>
          <p:cNvSpPr/>
          <p:nvPr/>
        </p:nvSpPr>
        <p:spPr>
          <a:xfrm>
            <a:off x="250920" y="3500280"/>
            <a:ext cx="8713800" cy="2449800"/>
          </a:xfrm>
          <a:custGeom>
            <a:avLst/>
            <a:gdLst/>
            <a:ahLst/>
            <a:rect l="l" t="t" r="r" b="b"/>
            <a:pathLst>
              <a:path w="8712968" h="2448272">
                <a:moveTo>
                  <a:pt x="408053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2040218"/>
                </a:lnTo>
                <a:cubicBezTo>
                  <a:pt x="8712968" y="2265579"/>
                  <a:pt x="8530276" y="2448271"/>
                  <a:pt x="8304915" y="2448271"/>
                </a:cubicBezTo>
                <a:lnTo>
                  <a:pt x="0" y="2448272"/>
                </a:lnTo>
                <a:lnTo>
                  <a:pt x="0" y="2448272"/>
                </a:lnTo>
                <a:lnTo>
                  <a:pt x="0" y="408053"/>
                </a:lnTo>
                <a:cubicBezTo>
                  <a:pt x="0" y="182692"/>
                  <a:pt x="182692" y="0"/>
                  <a:pt x="40805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10"/>
          <p:cNvSpPr/>
          <p:nvPr/>
        </p:nvSpPr>
        <p:spPr>
          <a:xfrm>
            <a:off x="4175280" y="285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764360" y="763560"/>
            <a:ext cx="602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附译文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年少时在养晦堂西侧一间屋子里读书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下头就读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遇到不懂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方就仰头思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不出答案便在屋内踱来踱去。这屋有处洼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径一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侵蚀扩展。每次经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总要被绊一下。起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感到很别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一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习惯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走那里就同走平地一样安稳。一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来到屋子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这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的洼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笑着对我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连一间屋子都不能治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什么治理家国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后叫仆童将洼坑填平。父亲走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读书思索问题又在屋里踱起步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原来洼坑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觉地面突然凸起一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一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头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却是平平整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了一会儿情形还是如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走了许多天才渐渐习惯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惯对人的影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非常厉害的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脚踏在平地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不能适应坑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久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洼地就仿佛平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把长久以来的坑填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恢复原来的状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认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阻碍而不能适应。因此君子求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在慎重地对待开始阶段的习惯养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2705760" y="87984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写出一种你喜爱的植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887480" y="2170800"/>
            <a:ext cx="5967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范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情人眼里出西施。莲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让我觉得它就是花中之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花可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朋友说我过于喜爱它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忽略了其他花的美丽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也许是吧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暮春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百花争艳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牡丹芍药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妍丽妩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使人为之震惊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夏季炎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罗兰、玉兰散发淡淡幽香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祛除夏意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让人心旷神怡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秋高气爽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菊独傲枝头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正直傲岸油然而生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隆隆寒冬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梅独自争妍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畏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寒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吐放清香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赞美之词不可胜数。但是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仍固执地认为莲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是完美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bt6b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431964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324000" y="1125360"/>
          <a:ext cx="8351640" cy="4680000"/>
        </p:xfrm>
        <a:graphic>
          <a:graphicData uri="http://schemas.openxmlformats.org/drawingml/2006/table">
            <a:tbl>
              <a:tblPr/>
              <a:tblGrid>
                <a:gridCol w="742680"/>
                <a:gridCol w="7608960"/>
              </a:tblGrid>
              <a:tr h="52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材   料   探  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1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矩形 4"/>
          <p:cNvSpPr/>
          <p:nvPr/>
        </p:nvSpPr>
        <p:spPr>
          <a:xfrm>
            <a:off x="111600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类题型一般提供几则专题材料或热点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求我们能从材料中发现问题、探究规律、提炼观点、归纳结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并能用文字准确简明地表达出探究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2261520" y="2863080"/>
            <a:ext cx="537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答材料探究题可分为以下几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审清题目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弄清材料。首先抓住题干中的关键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明确命题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意图。再通读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弄清材料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析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炼信息。按照题目要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真分析所给材料。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果是多则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找出它们的关联性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炼出自己需要的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三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合要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准确表达。答题时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材料间是因果关系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先写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原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再写其他原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材料是同类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先写共性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同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再写个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同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语言表述力求简洁准确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207800" y="14140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917160" y="19162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来无白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没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下万物生于有，有生于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古代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范畴，指虚无、空虚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926880" y="328464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通外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外面，外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遂与外人间隔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指桃花源以外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91880" y="429264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远益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远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远观而不可亵玩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距离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91880" y="522936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来无白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交往的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往来种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来来往往的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972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04372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204372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820520" y="54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往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左大括号 16"/>
          <p:cNvSpPr/>
          <p:nvPr/>
        </p:nvSpPr>
        <p:spPr>
          <a:xfrm>
            <a:off x="2627280" y="2133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934920"/>
              <a:gd name="textAreaBottom" fmla="*/ 93132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8"/>
                  <a:pt x="10800" y="276"/>
                </a:cubicBezTo>
                <a:lnTo>
                  <a:pt x="10800" y="10524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8"/>
                  <a:pt x="10800" y="11076"/>
                </a:cubicBezTo>
                <a:lnTo>
                  <a:pt x="10800" y="21324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大括号 17"/>
          <p:cNvSpPr/>
          <p:nvPr/>
        </p:nvSpPr>
        <p:spPr>
          <a:xfrm>
            <a:off x="2700360" y="4365720"/>
            <a:ext cx="216000" cy="718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18920"/>
              <a:gd name="textAreaBottom" fmla="*/ 71352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8"/>
          <p:cNvSpPr/>
          <p:nvPr/>
        </p:nvSpPr>
        <p:spPr>
          <a:xfrm>
            <a:off x="2700360" y="335772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647640"/>
              <a:gd name="textAreaBottom" fmla="*/ 64404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399"/>
                </a:cubicBezTo>
                <a:lnTo>
                  <a:pt x="10800" y="10401"/>
                </a:lnTo>
                <a:cubicBezTo>
                  <a:pt x="10800" y="10601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199"/>
                </a:cubicBezTo>
                <a:lnTo>
                  <a:pt x="10800" y="21201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9"/>
          <p:cNvSpPr/>
          <p:nvPr/>
        </p:nvSpPr>
        <p:spPr>
          <a:xfrm>
            <a:off x="2700360" y="530064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0720"/>
              <a:gd name="textAreaBottom" fmla="*/ 7153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对角圆角矩形 20"/>
          <p:cNvSpPr/>
          <p:nvPr/>
        </p:nvSpPr>
        <p:spPr>
          <a:xfrm>
            <a:off x="1042920" y="1916280"/>
            <a:ext cx="7489800" cy="4321080"/>
          </a:xfrm>
          <a:custGeom>
            <a:avLst/>
            <a:gdLst/>
            <a:ahLst/>
            <a:rect l="l" t="t" r="r" b="b"/>
            <a:pathLst>
              <a:path w="7488832" h="4320480">
                <a:moveTo>
                  <a:pt x="720094" y="0"/>
                </a:moveTo>
                <a:lnTo>
                  <a:pt x="7488832" y="0"/>
                </a:lnTo>
                <a:lnTo>
                  <a:pt x="7488832" y="0"/>
                </a:lnTo>
                <a:lnTo>
                  <a:pt x="7488832" y="3600385"/>
                </a:lnTo>
                <a:cubicBezTo>
                  <a:pt x="7488832" y="3998082"/>
                  <a:pt x="7166435" y="4320479"/>
                  <a:pt x="6768738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bt45.jpg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bt6b.jpg" descr=""/>
          <p:cNvPicPr/>
          <p:nvPr/>
        </p:nvPicPr>
        <p:blipFill>
          <a:blip r:embed="rId2"/>
          <a:stretch/>
        </p:blipFill>
        <p:spPr>
          <a:xfrm>
            <a:off x="226692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468360" y="2274480"/>
            <a:ext cx="83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莱芜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材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简洁的语言提取主要信息。全国人大新闻发言人傅莹在答问中提到的“《新环保法》‘有牙齿’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全国人大首场发布会的一大亮点。污染的“硬骨头”如何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律的“牙齿”如何长出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会”期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姓对《新环保法》发出了一系列追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工作报告》中指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污染是民生之患、民心之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铁腕治理。今年。二氧化碳排放量强度要降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%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学需氧量、氨氮排放都要减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氧化硫、氮氧化物排量要分别减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。我们一定要严格环保执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偷排放者出重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其付出沉重的代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姑息纵容者严问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其受到应有的处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t45.jpg" descr=""/>
          <p:cNvPicPr/>
          <p:nvPr/>
        </p:nvPicPr>
        <p:blipFill>
          <a:blip r:embed="rId1"/>
          <a:stretch/>
        </p:blipFill>
        <p:spPr>
          <a:xfrm>
            <a:off x="6299280" y="260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275" name="bt6b.jpg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2277720" y="1049040"/>
            <a:ext cx="48488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筛选提炼信息的能力。题干要求用简洁的语言从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提取主要信息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答时首先读懂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进行筛选提炼。通读材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段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段都有侧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因此可以从三段中筛选提炼出三条信息。第一段是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线面两端的总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键句子是新闻发言人的答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即“《新环保法》‘有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齿’”。第二段使用设问修辞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关键在答句中“百姓对《新环保法》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了一系列追问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可用自己的话概括为“《新环保法》出台备受百姓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”。第三段使用总分的结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心句是开头的“环境污染是民生之患、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之痛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铁腕治理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将其与前面的“《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政府工作报告》指出”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一起进行压缩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得出“政府将铁腕执法”的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答案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示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新环保法》“有牙齿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新环保法》出台备受百姓关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将铁腕执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6" dur="20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bt46.jpg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448000" cy="503280"/>
          </a:xfrm>
          <a:prstGeom prst="rect">
            <a:avLst/>
          </a:prstGeom>
          <a:ln w="0">
            <a:noFill/>
          </a:ln>
        </p:spPr>
      </p:pic>
      <p:pic>
        <p:nvPicPr>
          <p:cNvPr id="278" name="bt6b.jpg" descr=""/>
          <p:cNvPicPr/>
          <p:nvPr/>
        </p:nvPicPr>
        <p:blipFill>
          <a:blip r:embed="rId2"/>
          <a:stretch/>
        </p:blipFill>
        <p:spPr>
          <a:xfrm>
            <a:off x="2195640" y="115920"/>
            <a:ext cx="4319640" cy="792000"/>
          </a:xfrm>
          <a:prstGeom prst="rect">
            <a:avLst/>
          </a:prstGeom>
          <a:ln w="0">
            <a:noFill/>
          </a:ln>
        </p:spPr>
      </p:pic>
      <p:pic>
        <p:nvPicPr>
          <p:cNvPr id="279" name="bt46.jpg" descr="id:2147504171;FounderCES"/>
          <p:cNvPicPr/>
          <p:nvPr/>
        </p:nvPicPr>
        <p:blipFill>
          <a:blip r:embed="rId3"/>
          <a:stretch/>
        </p:blipFill>
        <p:spPr>
          <a:xfrm>
            <a:off x="0" y="457200"/>
            <a:ext cx="885960" cy="181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2057760" y="943920"/>
            <a:ext cx="5288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丽水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的材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要求答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萤火虫观赏指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观赏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每年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是最佳观赏月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每天最适宜观赏时间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二、必备物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防蚊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长袖衣裤和旅游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三、注意事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的夜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丽水九龙国家湿地公园变成了“荧光海”。众多游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慕名前往观赏萤火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不少游客的行为造成了萤火虫大量死亡。为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学准备在“丽水欣欣港”发布“萤火虫观赏指南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根据以下材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完成“指南”中的“注意事项”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少写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萤火虫生命周期短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抓后最多只能活两三天。它发光的目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为了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偶从而繁衍下一代。其耐光性非常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存在光污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照相机和手机的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灯、手电筒、车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萤火虫便无法发现异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法进行交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无法交配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卵。太过嘈杂的环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让胆小的萤火虫提高警觉躲在树丛中不出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到惊吓而死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2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82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"/>
          <p:cNvSpPr/>
          <p:nvPr/>
        </p:nvSpPr>
        <p:spPr>
          <a:xfrm>
            <a:off x="3820680" y="1172880"/>
            <a:ext cx="163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要捕捉萤火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拍照时不要使用闪光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要用手电筒、车灯等强光照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要大声喧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题考查对材料的探究和语言表达能力。首先要明确写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意事项的目的是保护萤火虫。然后细读材料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根据萤火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特点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逐项提醒游客不要有哪些行为即可。要言简意赅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游客一目了然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8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1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0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6" dur="2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903240" y="1400040"/>
            <a:ext cx="195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词类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仙则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丝竹之乱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案牍之劳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蔓不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远益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不在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龙则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惟吾德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558880" y="20606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2484360" y="263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的使动用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……乱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2484360" y="31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的使动用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……劳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2050920" y="3716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出枝蔓、长出枝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692800" y="4221000"/>
            <a:ext cx="25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远播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132000" y="479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显出灵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468360" y="5229360"/>
            <a:ext cx="95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居室主人道德美好高尚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“有了芳馨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4"/>
          <p:cNvSpPr/>
          <p:nvPr/>
        </p:nvSpPr>
        <p:spPr>
          <a:xfrm>
            <a:off x="1547640" y="2492280"/>
            <a:ext cx="12240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1547640" y="5805360"/>
            <a:ext cx="1224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1835280" y="3573360"/>
            <a:ext cx="1220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7"/>
          <p:cNvSpPr/>
          <p:nvPr/>
        </p:nvSpPr>
        <p:spPr>
          <a:xfrm>
            <a:off x="1835280" y="2997360"/>
            <a:ext cx="1220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8"/>
          <p:cNvSpPr/>
          <p:nvPr/>
        </p:nvSpPr>
        <p:spPr>
          <a:xfrm>
            <a:off x="1547640" y="4149720"/>
            <a:ext cx="12240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971640" y="4653000"/>
            <a:ext cx="1220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0"/>
          <p:cNvSpPr/>
          <p:nvPr/>
        </p:nvSpPr>
        <p:spPr>
          <a:xfrm>
            <a:off x="2843280" y="5229360"/>
            <a:ext cx="1220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971640" y="4149720"/>
            <a:ext cx="1220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2217240" y="1325520"/>
            <a:ext cx="4938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言句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陋之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何陋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动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予独爱莲之出淤泥而不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沾染污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略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濯清涟而不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谓语“濯”前面省略了主语“莲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对角圆角矩形 5"/>
          <p:cNvSpPr/>
          <p:nvPr/>
        </p:nvSpPr>
        <p:spPr>
          <a:xfrm>
            <a:off x="539640" y="1413000"/>
            <a:ext cx="8209080" cy="4680000"/>
          </a:xfrm>
          <a:custGeom>
            <a:avLst/>
            <a:gdLst/>
            <a:ahLst/>
            <a:rect l="l" t="t" r="r" b="b"/>
            <a:pathLst>
              <a:path w="8208912" h="4680520">
                <a:moveTo>
                  <a:pt x="78010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900417"/>
                </a:lnTo>
                <a:cubicBezTo>
                  <a:pt x="8208912" y="4331255"/>
                  <a:pt x="7859648" y="4680519"/>
                  <a:pt x="7428810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1839960" y="1473120"/>
            <a:ext cx="478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刘禹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72-842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梦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朝彭城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祖籍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朝文学家、哲学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称是汉中山靖王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任监察御史。唐代中晚期著名诗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豪”之称。他的家庭是一个世代以儒学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的书香门第。政治上主张革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王叔文派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革新活动的中心人物之一。后来“永贞革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贬为朗州司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湖南常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代表作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陋室铭》《乌衣巷》《石头城》《蜀先主庙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对角圆角矩形 5"/>
          <p:cNvSpPr/>
          <p:nvPr/>
        </p:nvSpPr>
        <p:spPr>
          <a:xfrm>
            <a:off x="539640" y="1413000"/>
            <a:ext cx="7704360" cy="4608360"/>
          </a:xfrm>
          <a:custGeom>
            <a:avLst/>
            <a:gdLst/>
            <a:ahLst/>
            <a:rect l="l" t="t" r="r" b="b"/>
            <a:pathLst>
              <a:path w="7704856" h="4608512">
                <a:moveTo>
                  <a:pt x="768100" y="0"/>
                </a:moveTo>
                <a:lnTo>
                  <a:pt x="7704856" y="0"/>
                </a:lnTo>
                <a:lnTo>
                  <a:pt x="7704856" y="0"/>
                </a:lnTo>
                <a:lnTo>
                  <a:pt x="7704856" y="3840411"/>
                </a:lnTo>
                <a:cubicBezTo>
                  <a:pt x="7704856" y="4264621"/>
                  <a:pt x="7360966" y="4608511"/>
                  <a:pt x="693675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zz22a.jpg" descr="id:2147504004;FounderCES"/>
          <p:cNvPicPr/>
          <p:nvPr/>
        </p:nvPicPr>
        <p:blipFill>
          <a:blip r:embed="rId2"/>
          <a:stretch/>
        </p:blipFill>
        <p:spPr>
          <a:xfrm>
            <a:off x="7236000" y="2133720"/>
            <a:ext cx="1549080" cy="3024000"/>
          </a:xfrm>
          <a:prstGeom prst="rect">
            <a:avLst/>
          </a:prstGeom>
          <a:ln cap="sq" w="127080">
            <a:solidFill>
              <a:srgbClr val="00b05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1" name="对角圆角矩形 5"/>
          <p:cNvSpPr/>
          <p:nvPr/>
        </p:nvSpPr>
        <p:spPr>
          <a:xfrm>
            <a:off x="611280" y="1413000"/>
            <a:ext cx="8281800" cy="4248000"/>
          </a:xfrm>
          <a:custGeom>
            <a:avLst/>
            <a:gdLst/>
            <a:ahLst/>
            <a:rect l="l" t="t" r="r" b="b"/>
            <a:pathLst>
              <a:path w="8280920" h="4248472">
                <a:moveTo>
                  <a:pt x="708092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540379"/>
                </a:lnTo>
                <a:cubicBezTo>
                  <a:pt x="8280920" y="3931447"/>
                  <a:pt x="7963896" y="4248471"/>
                  <a:pt x="7572828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51040" y="1573920"/>
            <a:ext cx="6140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周敦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017—1073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茂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濂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州营道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湖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。以母舅龙图阁学士郑向任分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军司理参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桂阳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知南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合州判官、虔州通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熙宁初知郴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擢广东转运判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点刑狱。所到之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实绩。“在合州郡四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心悦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不经先生之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吏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敢决”。晚年知南康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所在今星子县城。曾游览庐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庐山的山水所吸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其诗中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庐山我爱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买田山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。”因筑室庐山莲花峰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有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于湓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取营道故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濂溪以名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遂定居于此。代表作品《爱莲说》《周元公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太极图说》《通书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zz22b.jpg" descr=""/>
          <p:cNvPicPr/>
          <p:nvPr/>
        </p:nvPicPr>
        <p:blipFill>
          <a:blip r:embed="rId2"/>
          <a:stretch/>
        </p:blipFill>
        <p:spPr>
          <a:xfrm>
            <a:off x="4664160" y="5041800"/>
            <a:ext cx="3214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1925640" y="1538280"/>
            <a:ext cx="5660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代刻在器物上用来警诫自己或称述功德的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就成为一种文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文体一般都是用韵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陋室铭》是记述自己居住的简陋的屋子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种文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可以说明议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用来抒发感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可以叙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为了说明一个道理。《爱莲说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写莲花表达自己的情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对角圆角矩形 5"/>
          <p:cNvSpPr/>
          <p:nvPr/>
        </p:nvSpPr>
        <p:spPr>
          <a:xfrm>
            <a:off x="539640" y="1341360"/>
            <a:ext cx="8280360" cy="4175280"/>
          </a:xfrm>
          <a:custGeom>
            <a:avLst/>
            <a:gdLst/>
            <a:ahLst/>
            <a:rect l="l" t="t" r="r" b="b"/>
            <a:pathLst>
              <a:path w="8280920" h="4176464">
                <a:moveTo>
                  <a:pt x="696091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480372"/>
                </a:lnTo>
                <a:cubicBezTo>
                  <a:pt x="8280920" y="3864812"/>
                  <a:pt x="7969269" y="4176463"/>
                  <a:pt x="7584829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932360" y="4797360"/>
            <a:ext cx="3743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539640" y="2500920"/>
            <a:ext cx="8280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禹锡写《陋室铭》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王朝正在一天天地衰落下去。在宫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宦官专废立之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皇帝听命于家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朝廷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僧孺、李宗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德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党互相倾轧不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妒贤害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人唯亲。在这种情况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官僚士大夫阶层大多只顾寻欢作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以国事为念。刘禹锡对此深感忧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又无力回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采取消极的办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善其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而不与那些庸俗的官僚来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对角圆角矩形 5"/>
          <p:cNvSpPr/>
          <p:nvPr/>
        </p:nvSpPr>
        <p:spPr>
          <a:xfrm>
            <a:off x="468360" y="1628640"/>
            <a:ext cx="8280360" cy="4464360"/>
          </a:xfrm>
          <a:custGeom>
            <a:avLst/>
            <a:gdLst/>
            <a:ahLst/>
            <a:rect l="l" t="t" r="r" b="b"/>
            <a:pathLst>
              <a:path w="8280920" h="4464496">
                <a:moveTo>
                  <a:pt x="744097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720398"/>
                </a:lnTo>
                <a:cubicBezTo>
                  <a:pt x="8280920" y="4131351"/>
                  <a:pt x="7947776" y="4464495"/>
                  <a:pt x="7536823" y="4464495"/>
                </a:cubicBezTo>
                <a:lnTo>
                  <a:pt x="0" y="4464496"/>
                </a:lnTo>
                <a:lnTo>
                  <a:pt x="0" y="4464496"/>
                </a:lnTo>
                <a:lnTo>
                  <a:pt x="0" y="744097"/>
                </a:lnTo>
                <a:cubicBezTo>
                  <a:pt x="0" y="333144"/>
                  <a:pt x="333144" y="0"/>
                  <a:pt x="74409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